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6.wmf" ContentType="image/x-wmf"/>
  <Override PartName="/ppt/media/image14.png" ContentType="image/png"/>
  <Override PartName="/ppt/media/image25.wmf" ContentType="image/x-wmf"/>
  <Override PartName="/ppt/media/image2.jpeg" ContentType="image/jpeg"/>
  <Override PartName="/ppt/media/image3.jpeg" ContentType="image/jpeg"/>
  <Override PartName="/ppt/media/image15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9F7B6-2B10-44B1-979F-B25933A6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3E0F1-D714-4249-A347-57A4E438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86830-ACC6-4590-A485-3A95F183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530E9-4AB0-4A5B-A4CD-09BA4336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7684B-56FF-4FBF-AF06-D155D880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34D20-0BD2-4FD7-BF75-FE33F23F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21BF7-562F-4146-8BBA-F9F1ABC3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2D1F4-0244-483C-8D2C-29C83694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8A8B4-030B-4F31-AA90-3847088C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0063B-C219-4D22-80AC-5CDB38EE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C467B-64D9-47C1-B011-790C3D7B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7987E-E925-48E6-BEEF-EFD6774B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0C135-6AE8-4753-BA00-00073224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61CF1-BFD4-4897-9049-1A0E6DB0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1F668-7D21-4BC3-A393-F58E2499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D371D-5AF8-4152-A55F-E4901EAD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60268-A84E-4AB3-A7DF-5AFFC8DA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0265C-B4A2-4302-B1B0-280DC6A3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F5A48-B8BF-4D18-9297-B936D6CC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FA3C7-792D-42D4-83FE-8FDC3655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BCBF4-FB6A-42E4-8BE4-DFFCA6B7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10AC0-5B2B-40FE-8B82-A57E4D4D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AB9B7-D64B-4EF4-B961-093F444C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AD76A-1D30-49BA-A5A7-F968F829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BD309-0D60-4289-B065-36BBB603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E960A-4BF0-4322-A7A2-C631AA2C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39969-7FA3-4A11-85D8-C984779A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FB955-390C-49AA-93B6-3E7E81B9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C4FD1-4652-4138-8A3F-A1979F0B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F4C6E-1D66-4A93-9D6F-F497DC55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A2C90-CCC6-4AB5-8D12-38AB2517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AA3D5-F6CA-46E2-AFAF-A636D6EE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AFB2C-C6A1-4888-B797-B7252F6F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D3E22-8EAE-463C-B066-3075071C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FA9ED-876C-4F32-8FD3-52BCACE4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10001-7B8C-498E-9E60-F22C1158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44B20-BAEC-4A03-9DF9-CC2AD827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F3BC4-6A33-439E-AC47-94210DB2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EA85C-64A2-4A06-93E4-C5A24A31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A9DF8-8C63-4DD8-9131-1982892B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6C3B5-9127-4CC8-AE29-DF9DFEB2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072D3-C26F-41E5-A3DB-CBD858CE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0B9F5-3494-4217-B31A-3D477602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FFCDA-7401-44C0-A088-F703EE06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2CDD9-232A-486C-8918-7091CF56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1EA2C-3FC7-4E2F-970B-DB3ABA53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50867-A05D-4FB3-85F6-7ED98CA7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D3DFA-3741-455C-BEC5-53641F28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9827F-1FA0-445F-916E-164DD4DE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E9935-9EF1-433F-9C5B-246C5047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03891-47FE-4C77-A0DB-3F38F1FF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152FD-C913-4152-BECB-D8FC4C20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15674-FBD9-4DB4-A74E-635703A4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A1CCC-83D2-4BA8-8E2F-C126A39A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152DA-C776-4C55-963D-0A065AEE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EF5A2-123D-4BCA-B349-54C19341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447BE-DB58-4FF6-8A4C-4DF3A182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8C30A-158F-4506-8AA8-25B41724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5E906-6E95-4225-B21D-3DD4FBDE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D699F-ED73-49B2-B7CC-DA4B6B6C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A0705-14DC-441C-98C2-1FDB63D1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01310-CC62-408A-8315-FC397A2D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675CF-3FE7-4D09-9F92-40414BC1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53311-F54A-4C29-BBE5-6EE177FA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FB69E-7F7A-4C33-A7D0-594F1A30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8B1EB-337E-4147-8113-877B33BC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9BDB2-F53B-425A-82DE-8CE85919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F3B01-7633-4BEA-A067-8CC167F7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ED911-583A-4982-A1F1-B6FDE897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9B3-57F4-4591-919B-2B1C6FC3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06A9-37D6-4B21-946B-29467262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C573-C7FE-408F-8C81-64021CB8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62C-3456-4A55-B785-4E93A5A7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536E-3D0E-477F-B79E-8D99154D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4DA-446E-4F12-AD68-8FCCAF6D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6680-B989-46CA-90C2-43C8788B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F18D-2D11-47F2-A9B6-488F696F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40A2-6748-45BD-AAB9-7C725761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9E9-0839-4F11-A29A-15A1925B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EFB-4EF2-45BD-9021-5F652B44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3A5A-0AF3-4D56-8B0C-2C37FE1F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E7C1-3696-4929-A98A-1AF44AF6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B4F6-3C7B-4E09-8C03-CE387CDB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F710-6E4E-491F-9FF4-95C28531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15B6-282B-44F9-B8A3-A7CCCE17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EE92-745C-497E-A91D-2BD24C87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9284-C276-49B3-A678-F32B29FC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9E3E-4055-4E84-8C9D-8B47384B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F717-9CD1-4AD8-A5E0-7C76556B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2548-DF6F-4C66-9F43-62FDD431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4856-3016-43FA-8FCD-B445F06A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4620-A431-448F-9151-B3E0F0E2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BBBC-3FDE-4E80-8BA4-536D9B7A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1C0F8-476C-47D8-849C-22A848A7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7600B-67A4-46A9-9728-5B6B52E8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EDECC-41D2-4564-A59E-47DE4BB1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17DEE-B630-4EE3-B0A0-B7266DB6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CDFA2-0C50-4066-85CA-FADB4C20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A6A34-ACCA-4CAE-87B6-E3E8421F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BF242-D0B1-4242-B615-FDF96509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5F7D5-42A9-4EEA-802D-0C0D0C76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2AA3E-ED39-4D7C-A539-582CED25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AAE9E-DE84-4066-9F16-93A1C143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FD69D-C02B-4096-A7CA-1C652603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E9306-B461-4D59-8130-A53EC7F2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19CD4-BE98-414A-9C03-E1C3DA26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0221D-0405-4CE6-827B-D5B40CB0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AE450-1247-4B7B-BF58-5EF58E6F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1BABF-7055-4179-BA08-8A9E72B8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41EAE-4199-4E56-882E-111242F9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B8D1C-53DA-4023-9137-59610D1C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7BA89-3BD4-46CD-9CC2-1A4A3F44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D1FCE-A58C-4B32-9054-0003B48F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55292-D2C0-47E1-8893-51783137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CF0B0-225A-4C2E-8341-643A8043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81E2C-9F86-4F28-A3E7-30D98519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60841-A6CE-4CA6-9F84-6640CFA0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E4931-63F3-4F64-9D54-1EEDEC02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8D8D7-9532-4E73-B770-3345E50B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281EE-2504-45C5-82DF-853693FA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B6B01-0652-4573-BEEC-C802EA1A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E8B3D-6E33-4547-AD52-B258908A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8E3AF-78FC-4C34-9AA1-CF98F075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A362E-6A23-4B94-B0DD-E907A386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1FFE7-9DAF-424B-AC20-2A49331B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8D26C-A88A-4E73-8828-C066EF0B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C6DD1-2ABC-4170-BF0E-07178B40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0F57B-6F9A-44CD-A931-30C0B907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AEC9E-6054-48EC-9B6D-79411E20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7FC0D-7453-489C-ACD3-47DE2556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16744-252C-4944-8BE8-C12870FA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AA5FB-F6B8-45FB-B862-04123D83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8F75-511E-4114-BAA2-2F39DB1A70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839C-91FD-4616-9E26-48F4430E2E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5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6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2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9120-20A8-4D26-AEF0-862A1867BED5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28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29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2E80-D945-4C51-AC7E-7071F60DDE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3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3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3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793D-33C8-4DC0-B157-A909D51DB9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7959-4BC1-445A-80C6-A12DAF70154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9C07-5703-4691-B234-5E2C32F87A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5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113E-A3B4-4C8C-921F-50455F22A95A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DE56-F62E-4585-9218-4D6A14AC2DF9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1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2608-BB0F-48A4-A1EC-5AF6083E3A40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E52E-8AA0-4229-843A-5E10A037A0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hyperlink" Target="http://www.gzsxw.net/" TargetMode="Externa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5" descr="框"/>
          <p:cNvPicPr/>
          <p:nvPr/>
        </p:nvPicPr>
        <p:blipFill>
          <a:blip r:embed="rId1"/>
          <a:stretch/>
        </p:blipFill>
        <p:spPr>
          <a:xfrm>
            <a:off x="2109960" y="1776240"/>
            <a:ext cx="6430680" cy="179712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2"/>
          <p:cNvSpPr/>
          <p:nvPr/>
        </p:nvSpPr>
        <p:spPr>
          <a:xfrm>
            <a:off x="3325680" y="2382840"/>
            <a:ext cx="41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解直角三角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455760" y="629640"/>
            <a:ext cx="574344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．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010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济宁中考）如图，是一张宽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的矩形台球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，一球从点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点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在长边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上）出发沿虚线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MN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射向边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，然后反弹到边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上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点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如果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MC=n,∠CMN=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那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点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点的距离为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82" name="Object 3"/>
          <p:cNvGraphicFramePr/>
          <p:nvPr/>
        </p:nvGraphicFramePr>
        <p:xfrm>
          <a:off x="-123840" y="3352680"/>
          <a:ext cx="142920" cy="1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3840" y="3352680"/>
                    <a:ext cx="14292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4" name="Rectangle 4"/>
          <p:cNvSpPr/>
          <p:nvPr/>
        </p:nvSpPr>
        <p:spPr>
          <a:xfrm>
            <a:off x="92880" y="3504600"/>
            <a:ext cx="2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5" name="Group 6"/>
          <p:cNvGrpSpPr/>
          <p:nvPr/>
        </p:nvGrpSpPr>
        <p:grpSpPr>
          <a:xfrm>
            <a:off x="6283440" y="1465200"/>
            <a:ext cx="2131560" cy="1600200"/>
            <a:chOff x="6283440" y="1465200"/>
            <a:chExt cx="2131560" cy="1600200"/>
          </a:xfrm>
        </p:grpSpPr>
        <p:grpSp>
          <p:nvGrpSpPr>
            <p:cNvPr id="786" name="Group 7"/>
            <p:cNvGrpSpPr/>
            <p:nvPr/>
          </p:nvGrpSpPr>
          <p:grpSpPr>
            <a:xfrm>
              <a:off x="6283440" y="1465200"/>
              <a:ext cx="2131560" cy="1290960"/>
              <a:chOff x="6283440" y="1465200"/>
              <a:chExt cx="2131560" cy="1290960"/>
            </a:xfrm>
          </p:grpSpPr>
          <p:sp>
            <p:nvSpPr>
              <p:cNvPr id="787" name="Text Box 8"/>
              <p:cNvSpPr/>
              <p:nvPr/>
            </p:nvSpPr>
            <p:spPr>
              <a:xfrm>
                <a:off x="6283440" y="1465200"/>
                <a:ext cx="34632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8" name="Text Box 9"/>
              <p:cNvSpPr/>
              <p:nvPr/>
            </p:nvSpPr>
            <p:spPr>
              <a:xfrm>
                <a:off x="8052840" y="1465200"/>
                <a:ext cx="34632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9" name="Text Box 10"/>
              <p:cNvSpPr/>
              <p:nvPr/>
            </p:nvSpPr>
            <p:spPr>
              <a:xfrm>
                <a:off x="8022600" y="2425320"/>
                <a:ext cx="34596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0" name="Text Box 11"/>
              <p:cNvSpPr/>
              <p:nvPr/>
            </p:nvSpPr>
            <p:spPr>
              <a:xfrm>
                <a:off x="6302160" y="2436120"/>
                <a:ext cx="35928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91" name="Group 12"/>
              <p:cNvGrpSpPr/>
              <p:nvPr/>
            </p:nvGrpSpPr>
            <p:grpSpPr>
              <a:xfrm>
                <a:off x="6545160" y="1678320"/>
                <a:ext cx="1773360" cy="977040"/>
                <a:chOff x="6545160" y="1678320"/>
                <a:chExt cx="1773360" cy="977040"/>
              </a:xfrm>
            </p:grpSpPr>
            <p:grpSp>
              <p:nvGrpSpPr>
                <p:cNvPr id="792" name="Group 13"/>
                <p:cNvGrpSpPr/>
                <p:nvPr/>
              </p:nvGrpSpPr>
              <p:grpSpPr>
                <a:xfrm>
                  <a:off x="6545160" y="1678320"/>
                  <a:ext cx="1603440" cy="862200"/>
                  <a:chOff x="6545160" y="1678320"/>
                  <a:chExt cx="1603440" cy="862200"/>
                </a:xfrm>
              </p:grpSpPr>
              <p:sp>
                <p:nvSpPr>
                  <p:cNvPr id="793" name="Rectangle 14"/>
                  <p:cNvSpPr/>
                  <p:nvPr/>
                </p:nvSpPr>
                <p:spPr>
                  <a:xfrm>
                    <a:off x="6545160" y="1678320"/>
                    <a:ext cx="1603440" cy="835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4" name="Freeform 15"/>
                  <p:cNvSpPr/>
                  <p:nvPr/>
                </p:nvSpPr>
                <p:spPr>
                  <a:xfrm>
                    <a:off x="7399800" y="2100960"/>
                    <a:ext cx="742320" cy="405720"/>
                  </a:xfrm>
                  <a:custGeom>
                    <a:avLst/>
                    <a:gdLst>
                      <a:gd name="textAreaLeft" fmla="*/ 0 w 742320"/>
                      <a:gd name="textAreaRight" fmla="*/ 742680 w 742320"/>
                      <a:gd name="textAreaTop" fmla="*/ 0 h 405720"/>
                      <a:gd name="textAreaBottom" fmla="*/ 406080 h 405720"/>
                    </a:gdLst>
                    <a:ahLst/>
                    <a:rect l="textAreaLeft" t="textAreaTop" r="textAreaRight" b="textAreaBottom"/>
                    <a:pathLst>
                      <a:path w="1260" h="660">
                        <a:moveTo>
                          <a:pt x="0" y="660"/>
                        </a:moveTo>
                        <a:lnTo>
                          <a:pt x="126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5" name="Arc 16"/>
                  <p:cNvSpPr/>
                  <p:nvPr/>
                </p:nvSpPr>
                <p:spPr>
                  <a:xfrm>
                    <a:off x="7413480" y="2423880"/>
                    <a:ext cx="167040" cy="116640"/>
                  </a:xfrm>
                  <a:custGeom>
                    <a:avLst/>
                    <a:gdLst>
                      <a:gd name="textAreaLeft" fmla="*/ 0 w 167040"/>
                      <a:gd name="textAreaRight" fmla="*/ 167400 w 167040"/>
                      <a:gd name="textAreaTop" fmla="*/ 0 h 116640"/>
                      <a:gd name="textAreaBottom" fmla="*/ 117000 h 116640"/>
                    </a:gdLst>
                    <a:ahLst/>
                    <a:rect l="textAreaLeft" t="textAreaTop" r="textAreaRight" b="textAreaBottom"/>
                    <a:pathLst>
                      <a:path fill="none" w="21307" h="10925">
                        <a:moveTo>
                          <a:pt x="18633" y="0"/>
                        </a:moveTo>
                        <a:cubicBezTo>
                          <a:pt x="19968" y="2276"/>
                          <a:pt x="20874" y="4778"/>
                          <a:pt x="21307" y="7380"/>
                        </a:cubicBezTo>
                      </a:path>
                      <a:path stroke="0" w="21307" h="10925">
                        <a:moveTo>
                          <a:pt x="18633" y="0"/>
                        </a:moveTo>
                        <a:cubicBezTo>
                          <a:pt x="19968" y="2276"/>
                          <a:pt x="20874" y="4778"/>
                          <a:pt x="21307" y="7380"/>
                        </a:cubicBezTo>
                        <a:lnTo>
                          <a:pt x="0" y="10925"/>
                        </a:lnTo>
                        <a:lnTo>
                          <a:pt x="18633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96" name="Text Box 17"/>
                <p:cNvSpPr/>
                <p:nvPr/>
              </p:nvSpPr>
              <p:spPr>
                <a:xfrm>
                  <a:off x="8000640" y="1964880"/>
                  <a:ext cx="317880" cy="28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·</a:t>
                  </a:r>
                  <a:endParaRPr b="0" lang="en-US" sz="9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7" name="Text Box 18"/>
                <p:cNvSpPr/>
                <p:nvPr/>
              </p:nvSpPr>
              <p:spPr>
                <a:xfrm>
                  <a:off x="7267320" y="2367360"/>
                  <a:ext cx="317880" cy="28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·</a:t>
                  </a:r>
                  <a:endParaRPr b="0" lang="en-US" sz="9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98" name="Text Box 19"/>
              <p:cNvSpPr/>
              <p:nvPr/>
            </p:nvSpPr>
            <p:spPr>
              <a:xfrm>
                <a:off x="7220880" y="2444400"/>
                <a:ext cx="39852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9" name="Text Box 20"/>
              <p:cNvSpPr/>
              <p:nvPr/>
            </p:nvSpPr>
            <p:spPr>
              <a:xfrm>
                <a:off x="8043480" y="1960200"/>
                <a:ext cx="371520" cy="31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0" name="Text Box 21"/>
              <p:cNvSpPr/>
              <p:nvPr/>
            </p:nvSpPr>
            <p:spPr>
              <a:xfrm>
                <a:off x="7508160" y="2298600"/>
                <a:ext cx="314640" cy="3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01" name="Text Box 22"/>
            <p:cNvSpPr/>
            <p:nvPr/>
          </p:nvSpPr>
          <p:spPr>
            <a:xfrm>
              <a:off x="6990120" y="2745360"/>
              <a:ext cx="8247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2" name="Text Box 23"/>
          <p:cNvSpPr/>
          <p:nvPr/>
        </p:nvSpPr>
        <p:spPr>
          <a:xfrm>
            <a:off x="6135480" y="2421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Text Box 24"/>
          <p:cNvSpPr/>
          <p:nvPr/>
        </p:nvSpPr>
        <p:spPr>
          <a:xfrm>
            <a:off x="6135480" y="1474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Text Box 25"/>
          <p:cNvSpPr/>
          <p:nvPr/>
        </p:nvSpPr>
        <p:spPr>
          <a:xfrm>
            <a:off x="7982280" y="1285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Text Box 26"/>
          <p:cNvSpPr/>
          <p:nvPr/>
        </p:nvSpPr>
        <p:spPr>
          <a:xfrm>
            <a:off x="8078760" y="2463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Text Box 27"/>
          <p:cNvSpPr/>
          <p:nvPr/>
        </p:nvSpPr>
        <p:spPr>
          <a:xfrm>
            <a:off x="7116120" y="252576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Text Box 28"/>
          <p:cNvSpPr/>
          <p:nvPr/>
        </p:nvSpPr>
        <p:spPr>
          <a:xfrm>
            <a:off x="8111880" y="1906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7656120" y="2251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Rectangle 3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10" name="Object 31"/>
          <p:cNvGraphicFramePr/>
          <p:nvPr/>
        </p:nvGraphicFramePr>
        <p:xfrm>
          <a:off x="3730680" y="2854440"/>
          <a:ext cx="1328760" cy="63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1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0680" y="2854440"/>
                    <a:ext cx="13287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2" name="Rectangle 32"/>
          <p:cNvSpPr/>
          <p:nvPr/>
        </p:nvSpPr>
        <p:spPr>
          <a:xfrm>
            <a:off x="468360" y="3800520"/>
            <a:ext cx="62802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010•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莱芜中考）如图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岛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岛的北偏东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50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方向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岛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岛的北偏西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0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方向，则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岛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两岛的视角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C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等于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3" name="图片 4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24560" y="4145040"/>
            <a:ext cx="2225880" cy="155412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34"/>
          <p:cNvSpPr/>
          <p:nvPr/>
        </p:nvSpPr>
        <p:spPr>
          <a:xfrm>
            <a:off x="1213920" y="535464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0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Rectangle 35"/>
          <p:cNvSpPr/>
          <p:nvPr/>
        </p:nvSpPr>
        <p:spPr>
          <a:xfrm>
            <a:off x="7458120" y="145260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Rectangle 36"/>
          <p:cNvSpPr/>
          <p:nvPr/>
        </p:nvSpPr>
        <p:spPr>
          <a:xfrm>
            <a:off x="7294680" y="1238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7" name=""/>
          <p:cNvGraphicFramePr/>
          <p:nvPr/>
        </p:nvGraphicFramePr>
        <p:xfrm>
          <a:off x="504720" y="711360"/>
          <a:ext cx="7893000" cy="2286000"/>
        </p:xfrm>
        <a:graphic>
          <a:graphicData uri="http://schemas.openxmlformats.org/drawingml/2006/table">
            <a:tbl>
              <a:tblPr/>
              <a:tblGrid>
                <a:gridCol w="7893000"/>
              </a:tblGrid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2010·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广州中考）目前世界上最高的电视塔是广州新电视塔．如图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所示，新电视塔高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AB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为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610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米，远处有一栋大楼，某人在楼底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C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处测得塔顶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B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的仰角为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45°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，在楼顶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D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处测得塔顶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B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的仰角为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39°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）求大楼与电视塔之间的距离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AC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）求大楼的高度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CD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（精确到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米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8" name="Picture 8" descr=""/>
          <p:cNvPicPr/>
          <p:nvPr/>
        </p:nvPicPr>
        <p:blipFill>
          <a:blip r:embed="rId1"/>
          <a:stretch/>
        </p:blipFill>
        <p:spPr>
          <a:xfrm>
            <a:off x="6977160" y="1965240"/>
            <a:ext cx="1549440" cy="159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9" name="Object 9"/>
          <p:cNvGraphicFramePr/>
          <p:nvPr/>
        </p:nvGraphicFramePr>
        <p:xfrm>
          <a:off x="7835760" y="3562200"/>
          <a:ext cx="433440" cy="59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0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35760" y="3562200"/>
                    <a:ext cx="4334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Rectangle 10"/>
          <p:cNvSpPr/>
          <p:nvPr/>
        </p:nvSpPr>
        <p:spPr>
          <a:xfrm>
            <a:off x="1139400" y="3062160"/>
            <a:ext cx="478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解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由题意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1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米）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Rectangle 11"/>
          <p:cNvSpPr/>
          <p:nvPr/>
        </p:nvSpPr>
        <p:spPr>
          <a:xfrm>
            <a:off x="523800" y="3630600"/>
            <a:ext cx="72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E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1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米），在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Rt△BDE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an∠BDE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1027080" y="4097160"/>
          <a:ext cx="7531200" cy="1554480"/>
        </p:xfrm>
        <a:graphic>
          <a:graphicData uri="http://schemas.openxmlformats.org/drawingml/2006/table">
            <a:tbl>
              <a:tblPr/>
              <a:tblGrid>
                <a:gridCol w="7531200"/>
              </a:tblGrid>
              <a:tr h="1554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故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BE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＝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DEtan39°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．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因为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CD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＝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AE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所以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CD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＝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AB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DE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宋体"/>
                          <a:ea typeface="楷体_GB2312"/>
                        </a:rPr>
                        <a:t>·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tan39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     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＝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610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－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610×tan39°≈116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（米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Rectangle 18"/>
          <p:cNvSpPr/>
          <p:nvPr/>
        </p:nvSpPr>
        <p:spPr>
          <a:xfrm>
            <a:off x="1126800" y="5794920"/>
            <a:ext cx="45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答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楼的高度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D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约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84200" y="789120"/>
          <a:ext cx="8018280" cy="3163680"/>
        </p:xfrm>
        <a:graphic>
          <a:graphicData uri="http://schemas.openxmlformats.org/drawingml/2006/table">
            <a:tbl>
              <a:tblPr/>
              <a:tblGrid>
                <a:gridCol w="8018280"/>
              </a:tblGrid>
              <a:tr h="3163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2010·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聊城中考） 建于明洪武七年（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1374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年），高度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米的光岳楼是目前我国现存的最高大、最古老的楼阁之一（如图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  <a:ea typeface="Times new="/>
                        </a:rPr>
                        <a:t>①）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．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  <a:ea typeface="Times new="/>
                        </a:rPr>
                        <a:t>喜爱数学实践活动的小伟，在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  <a:ea typeface="Times new="/>
                        </a:rPr>
                        <a:t>30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  <a:ea typeface="Times new="/>
                        </a:rPr>
                        <a:t>米高的光岳楼顶楼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  <a:ea typeface="Times new="/>
                        </a:rPr>
                        <a:t>P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  <a:ea typeface="Times new="/>
                        </a:rPr>
                        <a:t>处，利用自制测角仪测得正南方向商店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  <a:ea typeface="Times new="/>
                        </a:rPr>
                        <a:t>A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  <a:ea typeface="Times new="/>
                        </a:rPr>
                        <a:t>点的俯角为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  <a:ea typeface="Times new="/>
                        </a:rPr>
                        <a:t>60°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  <a:ea typeface="Times new="/>
                        </a:rPr>
                        <a:t>，又测得其正前方的海源阁宾馆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  <a:ea typeface="Times new="/>
                        </a:rPr>
                        <a:t>B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  <a:ea typeface="Times new="/>
                        </a:rPr>
                        <a:t>点的俯角为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  <a:ea typeface="Times new="/>
                        </a:rPr>
                        <a:t>30°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  <a:ea typeface="Times new="/>
                        </a:rPr>
                        <a:t>（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如图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  <a:ea typeface="Times new="/>
                        </a:rPr>
                        <a:t>②）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．求商店与海源阁宾馆之间的距离（结果保留根号）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6" name="Picture 8" descr=""/>
          <p:cNvPicPr/>
          <p:nvPr/>
        </p:nvPicPr>
        <p:blipFill>
          <a:blip r:embed="rId1"/>
          <a:stretch/>
        </p:blipFill>
        <p:spPr>
          <a:xfrm>
            <a:off x="1494000" y="4172040"/>
            <a:ext cx="4549680" cy="18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2"/>
          <p:cNvSpPr/>
          <p:nvPr/>
        </p:nvSpPr>
        <p:spPr>
          <a:xfrm>
            <a:off x="879480" y="789120"/>
            <a:ext cx="473724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解析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在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Rt△PO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O=3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PA=90°-60°=30° ∴OA=OPtan∠OP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8" name="Picture 3" descr=""/>
          <p:cNvPicPr/>
          <p:nvPr/>
        </p:nvPicPr>
        <p:blipFill>
          <a:blip r:embed="rId1"/>
          <a:stretch/>
        </p:blipFill>
        <p:spPr>
          <a:xfrm>
            <a:off x="5730840" y="1228680"/>
            <a:ext cx="2362320" cy="1743120"/>
          </a:xfrm>
          <a:prstGeom prst="rect">
            <a:avLst/>
          </a:prstGeom>
          <a:ln w="0">
            <a:noFill/>
          </a:ln>
        </p:spPr>
      </p:pic>
      <p:sp>
        <p:nvSpPr>
          <p:cNvPr id="829" name="Rectangle 4"/>
          <p:cNvSpPr/>
          <p:nvPr/>
        </p:nvSpPr>
        <p:spPr>
          <a:xfrm>
            <a:off x="841320" y="3384720"/>
            <a:ext cx="5556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Rt△POB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，∠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PB=90°-30°=60° ∴OB=OPtan∠OP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Object 5"/>
              <p:cNvSpPr txBox="1"/>
              <p:nvPr/>
            </p:nvSpPr>
            <p:spPr>
              <a:xfrm>
                <a:off x="1468440" y="2654280"/>
                <a:ext cx="1886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×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Object 6"/>
              <p:cNvSpPr txBox="1"/>
              <p:nvPr/>
            </p:nvSpPr>
            <p:spPr>
              <a:xfrm>
                <a:off x="1405080" y="4591080"/>
                <a:ext cx="186372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Object 7"/>
              <p:cNvSpPr txBox="1"/>
              <p:nvPr/>
            </p:nvSpPr>
            <p:spPr>
              <a:xfrm>
                <a:off x="998640" y="5316480"/>
                <a:ext cx="261288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B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O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2"/>
          <p:cNvSpPr/>
          <p:nvPr/>
        </p:nvSpPr>
        <p:spPr>
          <a:xfrm>
            <a:off x="474840" y="700200"/>
            <a:ext cx="8205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如图，海岛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四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海里周围内为暗礁区，一艘货轮由东向西航行，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处见岛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北偏西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60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航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海里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见岛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北偏西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0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货轮继续向西航行，有无触礁的危险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Text Box 3"/>
          <p:cNvSpPr/>
          <p:nvPr/>
        </p:nvSpPr>
        <p:spPr>
          <a:xfrm>
            <a:off x="646200" y="578340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答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货轮无触礁危险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Text Box 4"/>
          <p:cNvSpPr/>
          <p:nvPr/>
        </p:nvSpPr>
        <p:spPr>
          <a:xfrm>
            <a:off x="573120" y="2535120"/>
            <a:ext cx="470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∵ 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BA= 60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 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A= 30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Text Box 5"/>
          <p:cNvSpPr/>
          <p:nvPr/>
        </p:nvSpPr>
        <p:spPr>
          <a:xfrm>
            <a:off x="593640" y="297504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 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C=30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 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CD= 60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Text Box 6"/>
          <p:cNvSpPr/>
          <p:nvPr/>
        </p:nvSpPr>
        <p:spPr>
          <a:xfrm>
            <a:off x="573120" y="3456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Rt△AD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D=A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•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an30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Text Box 7"/>
          <p:cNvSpPr/>
          <p:nvPr/>
        </p:nvSpPr>
        <p:spPr>
          <a:xfrm>
            <a:off x="595440" y="3948120"/>
            <a:ext cx="48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Rt△AD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D=A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•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an60˚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Text Box 8"/>
          <p:cNvSpPr/>
          <p:nvPr/>
        </p:nvSpPr>
        <p:spPr>
          <a:xfrm>
            <a:off x="554040" y="436716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∵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D-CD=BC,BC=2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Text Box 9"/>
          <p:cNvSpPr/>
          <p:nvPr/>
        </p:nvSpPr>
        <p:spPr>
          <a:xfrm>
            <a:off x="584280" y="5335560"/>
            <a:ext cx="55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=       ≈12×1.732 =20.784 &gt; 2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Text Box 10"/>
          <p:cNvSpPr/>
          <p:nvPr/>
        </p:nvSpPr>
        <p:spPr>
          <a:xfrm>
            <a:off x="615960" y="205416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解析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过点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D⊥B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于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设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D=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Object 11"/>
              <p:cNvSpPr txBox="1"/>
              <p:nvPr/>
            </p:nvSpPr>
            <p:spPr>
              <a:xfrm>
                <a:off x="2419200" y="24177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Object 12"/>
              <p:cNvSpPr txBox="1"/>
              <p:nvPr/>
            </p:nvSpPr>
            <p:spPr>
              <a:xfrm>
                <a:off x="4557600" y="3332160"/>
                <a:ext cx="5446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4" name="Object 14"/>
              <p:cNvSpPr txBox="1"/>
              <p:nvPr/>
            </p:nvSpPr>
            <p:spPr>
              <a:xfrm>
                <a:off x="988920" y="4737240"/>
                <a:ext cx="14144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Object 13"/>
              <p:cNvSpPr txBox="1"/>
              <p:nvPr/>
            </p:nvSpPr>
            <p:spPr>
              <a:xfrm>
                <a:off x="4619520" y="3979800"/>
                <a:ext cx="532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Object 15"/>
              <p:cNvSpPr txBox="1"/>
              <p:nvPr/>
            </p:nvSpPr>
            <p:spPr>
              <a:xfrm>
                <a:off x="1558800" y="5302080"/>
                <a:ext cx="5716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47" name="Text Box 16"/>
          <p:cNvSpPr/>
          <p:nvPr/>
        </p:nvSpPr>
        <p:spPr>
          <a:xfrm>
            <a:off x="615960" y="4824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Line 17"/>
          <p:cNvSpPr/>
          <p:nvPr/>
        </p:nvSpPr>
        <p:spPr>
          <a:xfrm>
            <a:off x="5175360" y="4546440"/>
            <a:ext cx="3206520" cy="11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Line 18"/>
          <p:cNvSpPr/>
          <p:nvPr/>
        </p:nvSpPr>
        <p:spPr>
          <a:xfrm flipV="1">
            <a:off x="6546960" y="2728800"/>
            <a:ext cx="0" cy="18288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Line 19"/>
          <p:cNvSpPr/>
          <p:nvPr/>
        </p:nvSpPr>
        <p:spPr>
          <a:xfrm flipV="1">
            <a:off x="8381880" y="2728800"/>
            <a:ext cx="0" cy="18288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Line 20"/>
          <p:cNvSpPr/>
          <p:nvPr/>
        </p:nvSpPr>
        <p:spPr>
          <a:xfrm flipH="1" flipV="1">
            <a:off x="5529240" y="3290760"/>
            <a:ext cx="966960" cy="125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Line 21"/>
          <p:cNvSpPr/>
          <p:nvPr/>
        </p:nvSpPr>
        <p:spPr>
          <a:xfrm flipH="1" flipV="1">
            <a:off x="5509800" y="3290400"/>
            <a:ext cx="2871720" cy="1266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Text Box 22"/>
          <p:cNvSpPr/>
          <p:nvPr/>
        </p:nvSpPr>
        <p:spPr>
          <a:xfrm>
            <a:off x="6364440" y="464508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Text Box 23"/>
          <p:cNvSpPr/>
          <p:nvPr/>
        </p:nvSpPr>
        <p:spPr>
          <a:xfrm>
            <a:off x="8209080" y="4611600"/>
            <a:ext cx="4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Text Box 24"/>
          <p:cNvSpPr/>
          <p:nvPr/>
        </p:nvSpPr>
        <p:spPr>
          <a:xfrm>
            <a:off x="5218200" y="28335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Text Box 25"/>
          <p:cNvSpPr/>
          <p:nvPr/>
        </p:nvSpPr>
        <p:spPr>
          <a:xfrm>
            <a:off x="6361200" y="2268360"/>
            <a:ext cx="60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N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Text Box 26"/>
          <p:cNvSpPr/>
          <p:nvPr/>
        </p:nvSpPr>
        <p:spPr>
          <a:xfrm>
            <a:off x="8226360" y="2282760"/>
            <a:ext cx="52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Line 27"/>
          <p:cNvSpPr/>
          <p:nvPr/>
        </p:nvSpPr>
        <p:spPr>
          <a:xfrm>
            <a:off x="5511960" y="3260880"/>
            <a:ext cx="9360" cy="1296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Text Box 28"/>
          <p:cNvSpPr/>
          <p:nvPr/>
        </p:nvSpPr>
        <p:spPr>
          <a:xfrm>
            <a:off x="5349960" y="462456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 Box 2"/>
          <p:cNvSpPr/>
          <p:nvPr/>
        </p:nvSpPr>
        <p:spPr>
          <a:xfrm>
            <a:off x="517680" y="750960"/>
            <a:ext cx="810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7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段河坝的横断面为等腰梯形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BC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试根据下图中的数据求出坡角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α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和坝底宽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（单位是米，结果保留根号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AutoShape 3"/>
          <p:cNvSpPr/>
          <p:nvPr/>
        </p:nvSpPr>
        <p:spPr>
          <a:xfrm rot="10800000">
            <a:off x="4838400" y="2147400"/>
            <a:ext cx="3429000" cy="609840"/>
          </a:xfrm>
          <a:custGeom>
            <a:avLst/>
            <a:gdLst>
              <a:gd name="textAreaLeft" fmla="*/ 934560 w 3429000"/>
              <a:gd name="textAreaRight" fmla="*/ 2494440 w 3429000"/>
              <a:gd name="textAreaTop" fmla="*/ 166320 h 609840"/>
              <a:gd name="textAreaBottom" fmla="*/ 4435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75" y="21600"/>
                </a:lnTo>
                <a:lnTo>
                  <a:pt x="1342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Text Box 4"/>
          <p:cNvSpPr/>
          <p:nvPr/>
        </p:nvSpPr>
        <p:spPr>
          <a:xfrm>
            <a:off x="4610160" y="26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Text Box 5"/>
          <p:cNvSpPr/>
          <p:nvPr/>
        </p:nvSpPr>
        <p:spPr>
          <a:xfrm>
            <a:off x="5905440" y="17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6819840" y="17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Text Box 7"/>
          <p:cNvSpPr/>
          <p:nvPr/>
        </p:nvSpPr>
        <p:spPr>
          <a:xfrm>
            <a:off x="8115480" y="26049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Line 8"/>
          <p:cNvSpPr/>
          <p:nvPr/>
        </p:nvSpPr>
        <p:spPr>
          <a:xfrm>
            <a:off x="6134040" y="214776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Line 9"/>
          <p:cNvSpPr/>
          <p:nvPr/>
        </p:nvSpPr>
        <p:spPr>
          <a:xfrm>
            <a:off x="6972480" y="214776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Text Box 10"/>
          <p:cNvSpPr/>
          <p:nvPr/>
        </p:nvSpPr>
        <p:spPr>
          <a:xfrm>
            <a:off x="5981760" y="26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Text Box 11"/>
          <p:cNvSpPr/>
          <p:nvPr/>
        </p:nvSpPr>
        <p:spPr>
          <a:xfrm>
            <a:off x="6819840" y="26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Text Box 12"/>
          <p:cNvSpPr/>
          <p:nvPr/>
        </p:nvSpPr>
        <p:spPr>
          <a:xfrm>
            <a:off x="6362640" y="2071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5818320" y="23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Arc 14"/>
          <p:cNvSpPr/>
          <p:nvPr/>
        </p:nvSpPr>
        <p:spPr>
          <a:xfrm rot="10800000">
            <a:off x="7962840" y="2604960"/>
            <a:ext cx="76320" cy="152640"/>
          </a:xfrm>
          <a:custGeom>
            <a:avLst/>
            <a:gdLst>
              <a:gd name="textAreaLeft" fmla="*/ 0 w 76320"/>
              <a:gd name="textAreaRight" fmla="*/ 76320 w 763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Text Box 15"/>
          <p:cNvSpPr/>
          <p:nvPr/>
        </p:nvSpPr>
        <p:spPr>
          <a:xfrm>
            <a:off x="7505640" y="2376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4" name="Object 16"/>
          <p:cNvGraphicFramePr/>
          <p:nvPr/>
        </p:nvGraphicFramePr>
        <p:xfrm>
          <a:off x="7365960" y="1901880"/>
          <a:ext cx="118764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960" y="1901880"/>
                    <a:ext cx="11876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6" name="Group 493"/>
          <p:cNvGrpSpPr/>
          <p:nvPr/>
        </p:nvGrpSpPr>
        <p:grpSpPr>
          <a:xfrm>
            <a:off x="736560" y="2055960"/>
            <a:ext cx="5124600" cy="3809880"/>
            <a:chOff x="736560" y="2055960"/>
            <a:chExt cx="5124600" cy="3809880"/>
          </a:xfrm>
        </p:grpSpPr>
        <p:pic>
          <p:nvPicPr>
            <p:cNvPr id="877" name="Picture 27" descr="图片3"/>
            <p:cNvPicPr/>
            <p:nvPr/>
          </p:nvPicPr>
          <p:blipFill>
            <a:blip r:embed="rId3"/>
            <a:stretch/>
          </p:blipFill>
          <p:spPr>
            <a:xfrm>
              <a:off x="736560" y="2055960"/>
              <a:ext cx="5124600" cy="38098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878" name="Object 492"/>
            <p:cNvGraphicFramePr/>
            <p:nvPr/>
          </p:nvGraphicFramePr>
          <p:xfrm>
            <a:off x="2835360" y="2100240"/>
            <a:ext cx="228600" cy="241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79" name="Object 49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35360" y="2100240"/>
                      <a:ext cx="22860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2"/>
          <p:cNvSpPr/>
          <p:nvPr/>
        </p:nvSpPr>
        <p:spPr>
          <a:xfrm>
            <a:off x="758880" y="1855800"/>
            <a:ext cx="7797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用解直角三角形的知识解决实际问题的一般步骤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审题，通过图形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题目没画出图形的，可自己画出示意图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弄清已知和未知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找出有关的直角三角形，或通过作辅助线产生有关的直角三角形，把问题转化为解直角三角形的问题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根据直角三角形元素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边、角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之间关系解有关的直角三角形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1" name="Picture 6" descr="图片3"/>
          <p:cNvPicPr/>
          <p:nvPr/>
        </p:nvPicPr>
        <p:blipFill>
          <a:blip r:embed="rId1"/>
          <a:stretch/>
        </p:blipFill>
        <p:spPr>
          <a:xfrm>
            <a:off x="3027240" y="992160"/>
            <a:ext cx="3200400" cy="71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 Box 2"/>
          <p:cNvSpPr/>
          <p:nvPr/>
        </p:nvSpPr>
        <p:spPr>
          <a:xfrm>
            <a:off x="663480" y="965160"/>
            <a:ext cx="78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同学们，如果你是修建三峡大坝的工程师，现在有这样一个问题请你解决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3" name="Picture 4" descr=""/>
          <p:cNvPicPr/>
          <p:nvPr/>
        </p:nvPicPr>
        <p:blipFill>
          <a:blip r:embed="rId1"/>
          <a:srcRect l="0" t="0" r="0" b="25238"/>
          <a:stretch/>
        </p:blipFill>
        <p:spPr>
          <a:xfrm>
            <a:off x="3009960" y="2281320"/>
            <a:ext cx="3124080" cy="1614240"/>
          </a:xfrm>
          <a:prstGeom prst="rect">
            <a:avLst/>
          </a:prstGeom>
          <a:ln w="0">
            <a:noFill/>
          </a:ln>
        </p:spPr>
      </p:pic>
      <p:sp>
        <p:nvSpPr>
          <p:cNvPr id="884" name="Text Box 5"/>
          <p:cNvSpPr/>
          <p:nvPr/>
        </p:nvSpPr>
        <p:spPr>
          <a:xfrm>
            <a:off x="679320" y="3913200"/>
            <a:ext cx="771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水库大坝的横断面是梯形，坝顶宽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6m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坝高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3m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斜坡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坡度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i=1∶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斜坡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坡度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i=1∶2.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求斜坡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坡面角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α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坝底宽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和斜坡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长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精确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0.1m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Rectangle 6"/>
          <p:cNvSpPr/>
          <p:nvPr/>
        </p:nvSpPr>
        <p:spPr>
          <a:xfrm>
            <a:off x="2279520" y="2324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如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1730160" y="2244600"/>
            <a:ext cx="7413480" cy="3213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理解坡度、坡角等概念，会应用解直角三角形的知识解决与坡度、坡角有关的问题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；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、进一步培养分析、解决问题的能力，体会数形结合的思想．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668" name="Picture 8" descr="图片1"/>
          <p:cNvPicPr/>
          <p:nvPr/>
        </p:nvPicPr>
        <p:blipFill>
          <a:blip r:embed="rId1"/>
          <a:stretch/>
        </p:blipFill>
        <p:spPr>
          <a:xfrm>
            <a:off x="2058840" y="1413000"/>
            <a:ext cx="3178440" cy="7110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9" descr="温馨提示000"/>
          <p:cNvPicPr/>
          <p:nvPr/>
        </p:nvPicPr>
        <p:blipFill>
          <a:blip r:embed="rId2"/>
          <a:stretch/>
        </p:blipFill>
        <p:spPr>
          <a:xfrm>
            <a:off x="6500880" y="797040"/>
            <a:ext cx="1974960" cy="13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0" y="1953720"/>
            <a:ext cx="7848720" cy="356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海中有一个小岛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该岛四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海里内有暗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今有货轮由西向东航行，开始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岛南偏西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55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处，往东行驶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海里后，到达该岛的南偏西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5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之后，货轮继续往东航行，你认为货轮继续向东航行途中会有触礁的危险吗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?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你是如何想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?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与同伴进行交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671" name="Picture 7" descr="图片2"/>
          <p:cNvPicPr/>
          <p:nvPr/>
        </p:nvPicPr>
        <p:blipFill>
          <a:blip r:embed="rId1"/>
          <a:stretch/>
        </p:blipFill>
        <p:spPr>
          <a:xfrm>
            <a:off x="2505240" y="1103400"/>
            <a:ext cx="344484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5668920" y="3103560"/>
            <a:ext cx="2847960" cy="3095280"/>
            <a:chOff x="5668920" y="3103560"/>
            <a:chExt cx="2847960" cy="3095280"/>
          </a:xfrm>
        </p:grpSpPr>
        <p:grpSp>
          <p:nvGrpSpPr>
            <p:cNvPr id="673" name="Group 3"/>
            <p:cNvGrpSpPr/>
            <p:nvPr/>
          </p:nvGrpSpPr>
          <p:grpSpPr>
            <a:xfrm>
              <a:off x="5668920" y="3207600"/>
              <a:ext cx="2477160" cy="2991240"/>
              <a:chOff x="5668920" y="3207600"/>
              <a:chExt cx="2477160" cy="2991240"/>
            </a:xfrm>
          </p:grpSpPr>
          <p:pic>
            <p:nvPicPr>
              <p:cNvPr id="674" name="Picture 4" descr="pic_221103"/>
              <p:cNvPicPr/>
              <p:nvPr/>
            </p:nvPicPr>
            <p:blipFill>
              <a:blip r:embed="rId1"/>
              <a:stretch/>
            </p:blipFill>
            <p:spPr>
              <a:xfrm>
                <a:off x="5668920" y="3207600"/>
                <a:ext cx="2477160" cy="2991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5" name="Group 5"/>
              <p:cNvGrpSpPr/>
              <p:nvPr/>
            </p:nvGrpSpPr>
            <p:grpSpPr>
              <a:xfrm>
                <a:off x="6031080" y="3479760"/>
                <a:ext cx="1280160" cy="2700720"/>
                <a:chOff x="6031080" y="3479760"/>
                <a:chExt cx="1280160" cy="2700720"/>
              </a:xfrm>
            </p:grpSpPr>
            <p:sp>
              <p:nvSpPr>
                <p:cNvPr id="676" name="Line 6"/>
                <p:cNvSpPr/>
                <p:nvPr/>
              </p:nvSpPr>
              <p:spPr>
                <a:xfrm>
                  <a:off x="6201720" y="4280760"/>
                  <a:ext cx="897120" cy="157932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7" name="Line 7"/>
                <p:cNvSpPr/>
                <p:nvPr/>
              </p:nvSpPr>
              <p:spPr>
                <a:xfrm flipV="1">
                  <a:off x="6201720" y="3727080"/>
                  <a:ext cx="897120" cy="56448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8" name="Line 8"/>
                <p:cNvSpPr/>
                <p:nvPr/>
              </p:nvSpPr>
              <p:spPr>
                <a:xfrm>
                  <a:off x="7120800" y="3715920"/>
                  <a:ext cx="0" cy="2144160"/>
                </a:xfrm>
                <a:prstGeom prst="line">
                  <a:avLst/>
                </a:prstGeom>
                <a:ln w="381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9" name="Line 9"/>
                <p:cNvSpPr/>
                <p:nvPr/>
              </p:nvSpPr>
              <p:spPr>
                <a:xfrm>
                  <a:off x="6223680" y="4280760"/>
                  <a:ext cx="897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0" name="Freeform 10"/>
                <p:cNvSpPr/>
                <p:nvPr/>
              </p:nvSpPr>
              <p:spPr>
                <a:xfrm>
                  <a:off x="6358680" y="4291560"/>
                  <a:ext cx="176400" cy="282240"/>
                </a:xfrm>
                <a:custGeom>
                  <a:avLst/>
                  <a:gdLst>
                    <a:gd name="textAreaLeft" fmla="*/ 0 w 176400"/>
                    <a:gd name="textAreaRight" fmla="*/ 176760 w 176400"/>
                    <a:gd name="textAreaTop" fmla="*/ 0 h 282240"/>
                    <a:gd name="textAreaBottom" fmla="*/ 282600 h 282240"/>
                  </a:gdLst>
                  <a:ahLst/>
                  <a:rect l="textAreaLeft" t="textAreaTop" r="textAreaRight" b="textAreaBottom"/>
                  <a:pathLst>
                    <a:path w="143" h="227">
                      <a:moveTo>
                        <a:pt x="0" y="227"/>
                      </a:moveTo>
                      <a:cubicBezTo>
                        <a:pt x="20" y="212"/>
                        <a:pt x="97" y="174"/>
                        <a:pt x="120" y="136"/>
                      </a:cubicBezTo>
                      <a:cubicBezTo>
                        <a:pt x="143" y="98"/>
                        <a:pt x="133" y="28"/>
                        <a:pt x="136" y="0"/>
                      </a:cubicBez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1" name="Freeform 11"/>
                <p:cNvSpPr/>
                <p:nvPr/>
              </p:nvSpPr>
              <p:spPr>
                <a:xfrm>
                  <a:off x="6471000" y="4122720"/>
                  <a:ext cx="41760" cy="1627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162720"/>
                    <a:gd name="textAreaBottom" fmla="*/ 163080 h 162720"/>
                  </a:gdLst>
                  <a:ahLst/>
                  <a:rect l="textAreaLeft" t="textAreaTop" r="textAreaRight" b="textAreaBottom"/>
                  <a:pathLst>
                    <a:path w="34" h="131">
                      <a:moveTo>
                        <a:pt x="0" y="0"/>
                      </a:moveTo>
                      <a:cubicBezTo>
                        <a:pt x="5" y="10"/>
                        <a:pt x="30" y="40"/>
                        <a:pt x="32" y="62"/>
                      </a:cubicBezTo>
                      <a:cubicBezTo>
                        <a:pt x="34" y="84"/>
                        <a:pt x="15" y="117"/>
                        <a:pt x="11" y="131"/>
                      </a:cubicBez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2" name="Text Box 12"/>
                <p:cNvSpPr/>
                <p:nvPr/>
              </p:nvSpPr>
              <p:spPr>
                <a:xfrm>
                  <a:off x="6031080" y="4249440"/>
                  <a:ext cx="335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3" name="Text Box 13"/>
                <p:cNvSpPr/>
                <p:nvPr/>
              </p:nvSpPr>
              <p:spPr>
                <a:xfrm>
                  <a:off x="6975000" y="3479760"/>
                  <a:ext cx="336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4" name="Text Box 14"/>
                <p:cNvSpPr/>
                <p:nvPr/>
              </p:nvSpPr>
              <p:spPr>
                <a:xfrm>
                  <a:off x="6951600" y="5781600"/>
                  <a:ext cx="336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5" name="Text Box 15"/>
                <p:cNvSpPr/>
                <p:nvPr/>
              </p:nvSpPr>
              <p:spPr>
                <a:xfrm>
                  <a:off x="6873840" y="4010760"/>
                  <a:ext cx="225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6" name="Text Box 16"/>
                <p:cNvSpPr/>
                <p:nvPr/>
              </p:nvSpPr>
              <p:spPr>
                <a:xfrm>
                  <a:off x="6448680" y="3985560"/>
                  <a:ext cx="391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0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α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7" name="Text Box 17"/>
                <p:cNvSpPr/>
                <p:nvPr/>
              </p:nvSpPr>
              <p:spPr>
                <a:xfrm>
                  <a:off x="6415200" y="4306680"/>
                  <a:ext cx="336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20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β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88" name="AutoShape 18"/>
            <p:cNvSpPr/>
            <p:nvPr/>
          </p:nvSpPr>
          <p:spPr>
            <a:xfrm>
              <a:off x="6499440" y="3103560"/>
              <a:ext cx="840600" cy="395280"/>
            </a:xfrm>
            <a:prstGeom prst="wedgeRectCallout">
              <a:avLst>
                <a:gd name="adj1" fmla="val -58384"/>
                <a:gd name="adj2" fmla="val 219495"/>
              </a:avLst>
            </a:prstGeom>
            <a:noFill/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仰角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AutoShape 19"/>
            <p:cNvSpPr/>
            <p:nvPr/>
          </p:nvSpPr>
          <p:spPr>
            <a:xfrm>
              <a:off x="7676280" y="3121920"/>
              <a:ext cx="840600" cy="395280"/>
            </a:xfrm>
            <a:prstGeom prst="wedgeRectCallout">
              <a:avLst>
                <a:gd name="adj1" fmla="val -159703"/>
                <a:gd name="adj2" fmla="val 240879"/>
              </a:avLst>
            </a:prstGeom>
            <a:noFill/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水平线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0" name="AutoShape 20"/>
            <p:cNvSpPr/>
            <p:nvPr/>
          </p:nvSpPr>
          <p:spPr>
            <a:xfrm>
              <a:off x="5797440" y="5229000"/>
              <a:ext cx="840240" cy="395280"/>
            </a:xfrm>
            <a:prstGeom prst="wedgeRectCallout">
              <a:avLst>
                <a:gd name="adj1" fmla="val 22203"/>
                <a:gd name="adj2" fmla="val -255662"/>
              </a:avLst>
            </a:prstGeom>
            <a:noFill/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俯角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1" name="Text Box 21"/>
          <p:cNvSpPr/>
          <p:nvPr/>
        </p:nvSpPr>
        <p:spPr>
          <a:xfrm>
            <a:off x="457200" y="1419120"/>
            <a:ext cx="822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热气球的探测器显示，从热气球看一栋高楼顶部的仰角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0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看这栋高楼底部的俯角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60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热气球与高楼的水平距离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20m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这栋高楼有多高（结果精确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0.1m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Rectangle 25"/>
          <p:cNvSpPr/>
          <p:nvPr/>
        </p:nvSpPr>
        <p:spPr>
          <a:xfrm>
            <a:off x="538200" y="3314880"/>
            <a:ext cx="456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解析：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Rt△AB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α=30°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D=12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所以利用解直角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角形的知识求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D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；类似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以求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D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进而求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3" name="Picture 26" descr="图片3"/>
          <p:cNvPicPr/>
          <p:nvPr/>
        </p:nvPicPr>
        <p:blipFill>
          <a:blip r:embed="rId2"/>
          <a:stretch/>
        </p:blipFill>
        <p:spPr>
          <a:xfrm>
            <a:off x="2706840" y="706320"/>
            <a:ext cx="3377880" cy="7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2"/>
          <p:cNvSpPr/>
          <p:nvPr/>
        </p:nvSpPr>
        <p:spPr>
          <a:xfrm>
            <a:off x="893880" y="714240"/>
            <a:ext cx="69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解析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图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α=30°,</a:t>
            </a:r>
            <a:r>
              <a:rPr b="1" lang="el-G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β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60</a:t>
            </a:r>
            <a:r>
              <a:rPr b="1" lang="el-G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°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D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3"/>
              <p:cNvSpPr txBox="1"/>
              <p:nvPr/>
            </p:nvSpPr>
            <p:spPr>
              <a:xfrm>
                <a:off x="893880" y="1201680"/>
                <a:ext cx="28828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tan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4"/>
              <p:cNvSpPr txBox="1"/>
              <p:nvPr/>
            </p:nvSpPr>
            <p:spPr>
              <a:xfrm>
                <a:off x="893880" y="2003400"/>
                <a:ext cx="4248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5"/>
              <p:cNvSpPr txBox="1"/>
              <p:nvPr/>
            </p:nvSpPr>
            <p:spPr>
              <a:xfrm>
                <a:off x="893880" y="2600280"/>
                <a:ext cx="223200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×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6"/>
              <p:cNvSpPr txBox="1"/>
              <p:nvPr/>
            </p:nvSpPr>
            <p:spPr>
              <a:xfrm>
                <a:off x="893880" y="3379680"/>
                <a:ext cx="3458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7"/>
              <p:cNvSpPr txBox="1"/>
              <p:nvPr/>
            </p:nvSpPr>
            <p:spPr>
              <a:xfrm>
                <a:off x="893880" y="3882960"/>
                <a:ext cx="25192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Object 8"/>
              <p:cNvSpPr txBox="1"/>
              <p:nvPr/>
            </p:nvSpPr>
            <p:spPr>
              <a:xfrm>
                <a:off x="893880" y="4459320"/>
                <a:ext cx="42498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Object 9"/>
              <p:cNvSpPr txBox="1"/>
              <p:nvPr/>
            </p:nvSpPr>
            <p:spPr>
              <a:xfrm>
                <a:off x="893880" y="5106960"/>
                <a:ext cx="21603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7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2" name="Text Box 10"/>
          <p:cNvSpPr/>
          <p:nvPr/>
        </p:nvSpPr>
        <p:spPr>
          <a:xfrm>
            <a:off x="893880" y="57564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答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栋楼高约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77.1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3" name="Group 11"/>
          <p:cNvGrpSpPr/>
          <p:nvPr/>
        </p:nvGrpSpPr>
        <p:grpSpPr>
          <a:xfrm>
            <a:off x="5283360" y="1728720"/>
            <a:ext cx="3181320" cy="3818160"/>
            <a:chOff x="5283360" y="1728720"/>
            <a:chExt cx="3181320" cy="3818160"/>
          </a:xfrm>
        </p:grpSpPr>
        <p:pic>
          <p:nvPicPr>
            <p:cNvPr id="704" name="Picture 12" descr="pic_221103"/>
            <p:cNvPicPr/>
            <p:nvPr/>
          </p:nvPicPr>
          <p:blipFill>
            <a:blip r:embed="rId1"/>
            <a:stretch/>
          </p:blipFill>
          <p:spPr>
            <a:xfrm>
              <a:off x="5283360" y="1728720"/>
              <a:ext cx="3181320" cy="3818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5" name="Group 13"/>
            <p:cNvGrpSpPr/>
            <p:nvPr/>
          </p:nvGrpSpPr>
          <p:grpSpPr>
            <a:xfrm>
              <a:off x="5726160" y="2133720"/>
              <a:ext cx="1644840" cy="3337200"/>
              <a:chOff x="5726160" y="2133720"/>
              <a:chExt cx="1644840" cy="3337200"/>
            </a:xfrm>
          </p:grpSpPr>
          <p:sp>
            <p:nvSpPr>
              <p:cNvPr id="706" name="Line 14"/>
              <p:cNvSpPr/>
              <p:nvPr/>
            </p:nvSpPr>
            <p:spPr>
              <a:xfrm>
                <a:off x="5945400" y="3156120"/>
                <a:ext cx="1152360" cy="20160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7" name="Line 15"/>
              <p:cNvSpPr/>
              <p:nvPr/>
            </p:nvSpPr>
            <p:spPr>
              <a:xfrm flipV="1">
                <a:off x="5945400" y="2449440"/>
                <a:ext cx="1152360" cy="7207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8" name="Line 16"/>
              <p:cNvSpPr/>
              <p:nvPr/>
            </p:nvSpPr>
            <p:spPr>
              <a:xfrm>
                <a:off x="7126200" y="2435400"/>
                <a:ext cx="0" cy="27367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9" name="Line 17"/>
              <p:cNvSpPr/>
              <p:nvPr/>
            </p:nvSpPr>
            <p:spPr>
              <a:xfrm>
                <a:off x="5973840" y="3156120"/>
                <a:ext cx="115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0" name="Freeform 18"/>
              <p:cNvSpPr/>
              <p:nvPr/>
            </p:nvSpPr>
            <p:spPr>
              <a:xfrm>
                <a:off x="6147000" y="3170160"/>
                <a:ext cx="226800" cy="36036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143" h="227">
                    <a:moveTo>
                      <a:pt x="0" y="227"/>
                    </a:moveTo>
                    <a:cubicBezTo>
                      <a:pt x="20" y="212"/>
                      <a:pt x="97" y="174"/>
                      <a:pt x="120" y="136"/>
                    </a:cubicBezTo>
                    <a:cubicBezTo>
                      <a:pt x="143" y="98"/>
                      <a:pt x="133" y="28"/>
                      <a:pt x="136" y="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1" name="Freeform 19"/>
              <p:cNvSpPr/>
              <p:nvPr/>
            </p:nvSpPr>
            <p:spPr>
              <a:xfrm>
                <a:off x="6291360" y="2954520"/>
                <a:ext cx="54000" cy="207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34" h="131">
                    <a:moveTo>
                      <a:pt x="0" y="0"/>
                    </a:moveTo>
                    <a:cubicBezTo>
                      <a:pt x="5" y="10"/>
                      <a:pt x="30" y="40"/>
                      <a:pt x="32" y="62"/>
                    </a:cubicBezTo>
                    <a:cubicBezTo>
                      <a:pt x="34" y="84"/>
                      <a:pt x="15" y="117"/>
                      <a:pt x="11" y="131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2" name="Text Box 20"/>
              <p:cNvSpPr/>
              <p:nvPr/>
            </p:nvSpPr>
            <p:spPr>
              <a:xfrm>
                <a:off x="5726160" y="3116160"/>
                <a:ext cx="43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3" name="Text Box 21"/>
              <p:cNvSpPr/>
              <p:nvPr/>
            </p:nvSpPr>
            <p:spPr>
              <a:xfrm>
                <a:off x="6939000" y="2133720"/>
                <a:ext cx="43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4" name="Text Box 22"/>
              <p:cNvSpPr/>
              <p:nvPr/>
            </p:nvSpPr>
            <p:spPr>
              <a:xfrm>
                <a:off x="6908760" y="5072040"/>
                <a:ext cx="43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5" name="Text Box 23"/>
              <p:cNvSpPr/>
              <p:nvPr/>
            </p:nvSpPr>
            <p:spPr>
              <a:xfrm>
                <a:off x="6808680" y="280980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6" name="Text Box 24"/>
              <p:cNvSpPr/>
              <p:nvPr/>
            </p:nvSpPr>
            <p:spPr>
              <a:xfrm>
                <a:off x="6262920" y="2781360"/>
                <a:ext cx="50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α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7" name="Text Box 25"/>
              <p:cNvSpPr/>
              <p:nvPr/>
            </p:nvSpPr>
            <p:spPr>
              <a:xfrm>
                <a:off x="6219720" y="3191040"/>
                <a:ext cx="43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0000ff"/>
                    </a:solidFill>
                    <a:latin typeface="Times New Roman"/>
                    <a:ea typeface="Times New Roman"/>
                  </a:rPr>
                  <a:t>β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514440" y="1601640"/>
            <a:ext cx="814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如图，小明想测量塔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高度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他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处仰望塔顶，测得仰角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0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再往塔的方向前进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50m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至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测得仰角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60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小明的身高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5 m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那么该塔有多高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?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结果精确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 m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你能帮小明算出该塔有多高吗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9" name="Group 8"/>
          <p:cNvGrpSpPr/>
          <p:nvPr/>
        </p:nvGrpSpPr>
        <p:grpSpPr>
          <a:xfrm>
            <a:off x="5407200" y="3463920"/>
            <a:ext cx="2992320" cy="2402280"/>
            <a:chOff x="5407200" y="3463920"/>
            <a:chExt cx="2992320" cy="2402280"/>
          </a:xfrm>
        </p:grpSpPr>
        <p:sp>
          <p:nvSpPr>
            <p:cNvPr id="720" name="Line 9"/>
            <p:cNvSpPr/>
            <p:nvPr/>
          </p:nvSpPr>
          <p:spPr>
            <a:xfrm flipH="1">
              <a:off x="5852880" y="3678120"/>
              <a:ext cx="2112840" cy="14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Line 10"/>
            <p:cNvSpPr/>
            <p:nvPr/>
          </p:nvSpPr>
          <p:spPr>
            <a:xfrm flipV="1">
              <a:off x="5832360" y="5086080"/>
              <a:ext cx="214308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Line 11"/>
            <p:cNvSpPr/>
            <p:nvPr/>
          </p:nvSpPr>
          <p:spPr>
            <a:xfrm flipV="1">
              <a:off x="7966080" y="3666960"/>
              <a:ext cx="9360" cy="169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Line 12"/>
            <p:cNvSpPr/>
            <p:nvPr/>
          </p:nvSpPr>
          <p:spPr>
            <a:xfrm flipH="1">
              <a:off x="7081920" y="3687840"/>
              <a:ext cx="884160" cy="14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Line 13"/>
            <p:cNvSpPr/>
            <p:nvPr/>
          </p:nvSpPr>
          <p:spPr>
            <a:xfrm>
              <a:off x="5853240" y="5159520"/>
              <a:ext cx="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Line 14"/>
            <p:cNvSpPr/>
            <p:nvPr/>
          </p:nvSpPr>
          <p:spPr>
            <a:xfrm flipV="1">
              <a:off x="5853240" y="5349600"/>
              <a:ext cx="21128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Text Box 15"/>
            <p:cNvSpPr/>
            <p:nvPr/>
          </p:nvSpPr>
          <p:spPr>
            <a:xfrm>
              <a:off x="5472000" y="4819680"/>
              <a:ext cx="44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宋体"/>
                </a:rPr>
                <a:t>D′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Text Box 16"/>
            <p:cNvSpPr/>
            <p:nvPr/>
          </p:nvSpPr>
          <p:spPr>
            <a:xfrm>
              <a:off x="8039880" y="3463920"/>
              <a:ext cx="3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宋体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Text Box 17"/>
            <p:cNvSpPr/>
            <p:nvPr/>
          </p:nvSpPr>
          <p:spPr>
            <a:xfrm>
              <a:off x="7970400" y="4788000"/>
              <a:ext cx="42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宋体"/>
                </a:rPr>
                <a:t>B′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Text Box 18"/>
            <p:cNvSpPr/>
            <p:nvPr/>
          </p:nvSpPr>
          <p:spPr>
            <a:xfrm>
              <a:off x="7948440" y="524016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宋体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0" name="Text Box 19"/>
            <p:cNvSpPr/>
            <p:nvPr/>
          </p:nvSpPr>
          <p:spPr>
            <a:xfrm>
              <a:off x="5407200" y="546732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宋体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1" name="Text Box 20"/>
            <p:cNvSpPr/>
            <p:nvPr/>
          </p:nvSpPr>
          <p:spPr>
            <a:xfrm>
              <a:off x="6657840" y="4773600"/>
              <a:ext cx="67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宋体"/>
                </a:rPr>
                <a:t>C′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Text Box 21"/>
            <p:cNvSpPr/>
            <p:nvPr/>
          </p:nvSpPr>
          <p:spPr>
            <a:xfrm>
              <a:off x="6730920" y="5373720"/>
              <a:ext cx="67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宋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Line 22"/>
            <p:cNvSpPr/>
            <p:nvPr/>
          </p:nvSpPr>
          <p:spPr>
            <a:xfrm>
              <a:off x="7072200" y="5097600"/>
              <a:ext cx="972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34" name="Picture 23" descr="图片3"/>
          <p:cNvPicPr/>
          <p:nvPr/>
        </p:nvPicPr>
        <p:blipFill>
          <a:blip r:embed="rId1"/>
          <a:srcRect l="0" t="26670" r="0" b="0"/>
          <a:stretch/>
        </p:blipFill>
        <p:spPr>
          <a:xfrm>
            <a:off x="735120" y="826920"/>
            <a:ext cx="2243160" cy="5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2"/>
          <p:cNvGrpSpPr/>
          <p:nvPr/>
        </p:nvGrpSpPr>
        <p:grpSpPr>
          <a:xfrm>
            <a:off x="5607000" y="741240"/>
            <a:ext cx="2992320" cy="2402280"/>
            <a:chOff x="5607000" y="741240"/>
            <a:chExt cx="2992320" cy="2402280"/>
          </a:xfrm>
        </p:grpSpPr>
        <p:sp>
          <p:nvSpPr>
            <p:cNvPr id="736" name="Line 3"/>
            <p:cNvSpPr/>
            <p:nvPr/>
          </p:nvSpPr>
          <p:spPr>
            <a:xfrm flipH="1">
              <a:off x="6052680" y="955440"/>
              <a:ext cx="2112840" cy="14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7" name="Line 4"/>
            <p:cNvSpPr/>
            <p:nvPr/>
          </p:nvSpPr>
          <p:spPr>
            <a:xfrm flipV="1">
              <a:off x="6032160" y="2363400"/>
              <a:ext cx="214308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Line 5"/>
            <p:cNvSpPr/>
            <p:nvPr/>
          </p:nvSpPr>
          <p:spPr>
            <a:xfrm flipV="1">
              <a:off x="8165880" y="944280"/>
              <a:ext cx="9360" cy="169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Line 6"/>
            <p:cNvSpPr/>
            <p:nvPr/>
          </p:nvSpPr>
          <p:spPr>
            <a:xfrm flipH="1">
              <a:off x="7281720" y="965160"/>
              <a:ext cx="884160" cy="14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Line 7"/>
            <p:cNvSpPr/>
            <p:nvPr/>
          </p:nvSpPr>
          <p:spPr>
            <a:xfrm>
              <a:off x="6053040" y="2436840"/>
              <a:ext cx="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Line 8"/>
            <p:cNvSpPr/>
            <p:nvPr/>
          </p:nvSpPr>
          <p:spPr>
            <a:xfrm flipV="1">
              <a:off x="6053040" y="2626920"/>
              <a:ext cx="211284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2" name="Text Box 9"/>
            <p:cNvSpPr/>
            <p:nvPr/>
          </p:nvSpPr>
          <p:spPr>
            <a:xfrm>
              <a:off x="5671800" y="2097000"/>
              <a:ext cx="44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宋体"/>
                </a:rPr>
                <a:t>D′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Text Box 10"/>
            <p:cNvSpPr/>
            <p:nvPr/>
          </p:nvSpPr>
          <p:spPr>
            <a:xfrm>
              <a:off x="8239680" y="741240"/>
              <a:ext cx="3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宋体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4" name="Text Box 11"/>
            <p:cNvSpPr/>
            <p:nvPr/>
          </p:nvSpPr>
          <p:spPr>
            <a:xfrm>
              <a:off x="8170200" y="2065320"/>
              <a:ext cx="42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宋体"/>
                </a:rPr>
                <a:t>B′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Text Box 12"/>
            <p:cNvSpPr/>
            <p:nvPr/>
          </p:nvSpPr>
          <p:spPr>
            <a:xfrm>
              <a:off x="8148240" y="25174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宋体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Text Box 13"/>
            <p:cNvSpPr/>
            <p:nvPr/>
          </p:nvSpPr>
          <p:spPr>
            <a:xfrm>
              <a:off x="5607000" y="274464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宋体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Text Box 14"/>
            <p:cNvSpPr/>
            <p:nvPr/>
          </p:nvSpPr>
          <p:spPr>
            <a:xfrm>
              <a:off x="6857640" y="2050920"/>
              <a:ext cx="67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宋体"/>
                </a:rPr>
                <a:t>C′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Text Box 15"/>
            <p:cNvSpPr/>
            <p:nvPr/>
          </p:nvSpPr>
          <p:spPr>
            <a:xfrm>
              <a:off x="6930720" y="2651040"/>
              <a:ext cx="67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宋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Line 16"/>
            <p:cNvSpPr/>
            <p:nvPr/>
          </p:nvSpPr>
          <p:spPr>
            <a:xfrm>
              <a:off x="7272000" y="2374920"/>
              <a:ext cx="972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0" name="Text Box 17"/>
          <p:cNvSpPr/>
          <p:nvPr/>
        </p:nvSpPr>
        <p:spPr>
          <a:xfrm>
            <a:off x="633240" y="1074600"/>
            <a:ext cx="512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解析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图，由题意可知， 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D′B′=30°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C′B′=60°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′C′=50m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所以 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′AB′=60°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′AB′=30°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′C′=50m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设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′=x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Rectangle 18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52" name="Object 19"/>
          <p:cNvGraphicFramePr/>
          <p:nvPr/>
        </p:nvGraphicFramePr>
        <p:xfrm>
          <a:off x="588960" y="3100320"/>
          <a:ext cx="453384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3100320"/>
                    <a:ext cx="453384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54" name="Object 20"/>
              <p:cNvSpPr txBox="1"/>
              <p:nvPr/>
            </p:nvSpPr>
            <p:spPr>
              <a:xfrm>
                <a:off x="550800" y="3840120"/>
                <a:ext cx="5151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D</m:t>
                    </m:r>
                    <m:r>
                      <m:t xml:space="preserve">′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′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′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′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Object 21"/>
              <p:cNvSpPr txBox="1"/>
              <p:nvPr/>
            </p:nvSpPr>
            <p:spPr>
              <a:xfrm>
                <a:off x="696960" y="4411800"/>
                <a:ext cx="40622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Object 22"/>
              <p:cNvSpPr txBox="1"/>
              <p:nvPr/>
            </p:nvSpPr>
            <p:spPr>
              <a:xfrm>
                <a:off x="777960" y="4759200"/>
                <a:ext cx="58593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Object 23"/>
              <p:cNvSpPr txBox="1"/>
              <p:nvPr/>
            </p:nvSpPr>
            <p:spPr>
              <a:xfrm>
                <a:off x="770040" y="5695920"/>
                <a:ext cx="4416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755640" y="1341360"/>
            <a:ext cx="5905440" cy="48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建筑物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BC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上有一旗杆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AB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，由距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BC40m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D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处观察旗杆顶部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的仰角是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54°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，观察底部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的仰角为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45°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，求旗杆的高度（精确到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0.1m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解析：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等腰三角形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CD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∠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CD=90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C=DC=40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Rt△ACD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C=tan∠ADC×D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tan54°×40≈1.38×40=55.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所以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=AC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C=55.2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=15.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：棋杆的高度为</a:t>
            </a:r>
            <a:r>
              <a:rPr b="1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5.2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9" name="Picture 3" descr="pic_221104"/>
          <p:cNvPicPr/>
          <p:nvPr/>
        </p:nvPicPr>
        <p:blipFill>
          <a:blip r:embed="rId1"/>
          <a:srcRect l="5360" t="13616" r="56877" b="0"/>
          <a:stretch/>
        </p:blipFill>
        <p:spPr>
          <a:xfrm>
            <a:off x="5792760" y="530280"/>
            <a:ext cx="2873520" cy="2962080"/>
          </a:xfrm>
          <a:prstGeom prst="rect">
            <a:avLst/>
          </a:prstGeom>
          <a:ln w="0">
            <a:noFill/>
          </a:ln>
        </p:spPr>
      </p:pic>
      <p:grpSp>
        <p:nvGrpSpPr>
          <p:cNvPr id="760" name="Group 4"/>
          <p:cNvGrpSpPr/>
          <p:nvPr/>
        </p:nvGrpSpPr>
        <p:grpSpPr>
          <a:xfrm>
            <a:off x="5843520" y="3252960"/>
            <a:ext cx="2535120" cy="3076560"/>
            <a:chOff x="5843520" y="3252960"/>
            <a:chExt cx="2535120" cy="3076560"/>
          </a:xfrm>
        </p:grpSpPr>
        <p:sp>
          <p:nvSpPr>
            <p:cNvPr id="761" name="Line 5"/>
            <p:cNvSpPr/>
            <p:nvPr/>
          </p:nvSpPr>
          <p:spPr>
            <a:xfrm>
              <a:off x="5857560" y="5987880"/>
              <a:ext cx="252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Line 6"/>
            <p:cNvSpPr/>
            <p:nvPr/>
          </p:nvSpPr>
          <p:spPr>
            <a:xfrm flipV="1">
              <a:off x="6002280" y="3612960"/>
              <a:ext cx="1771560" cy="237456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Line 7"/>
            <p:cNvSpPr/>
            <p:nvPr/>
          </p:nvSpPr>
          <p:spPr>
            <a:xfrm flipV="1">
              <a:off x="6032160" y="4260600"/>
              <a:ext cx="1770120" cy="171576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Line 8"/>
            <p:cNvSpPr/>
            <p:nvPr/>
          </p:nvSpPr>
          <p:spPr>
            <a:xfrm>
              <a:off x="7788240" y="4260600"/>
              <a:ext cx="0" cy="172692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Line 9"/>
            <p:cNvSpPr/>
            <p:nvPr/>
          </p:nvSpPr>
          <p:spPr>
            <a:xfrm flipV="1">
              <a:off x="7792920" y="3597120"/>
              <a:ext cx="0" cy="6472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Freeform 10"/>
            <p:cNvSpPr/>
            <p:nvPr/>
          </p:nvSpPr>
          <p:spPr>
            <a:xfrm>
              <a:off x="6578280" y="5484600"/>
              <a:ext cx="246240" cy="502920"/>
            </a:xfrm>
            <a:custGeom>
              <a:avLst/>
              <a:gdLst>
                <a:gd name="textAreaLeft" fmla="*/ 0 w 246240"/>
                <a:gd name="textAreaRight" fmla="*/ 246240 w 24624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155" h="317">
                  <a:moveTo>
                    <a:pt x="0" y="0"/>
                  </a:moveTo>
                  <a:cubicBezTo>
                    <a:pt x="23" y="22"/>
                    <a:pt x="125" y="82"/>
                    <a:pt x="140" y="135"/>
                  </a:cubicBezTo>
                  <a:cubicBezTo>
                    <a:pt x="155" y="188"/>
                    <a:pt x="101" y="279"/>
                    <a:pt x="91" y="317"/>
                  </a:cubicBezTo>
                </a:path>
              </a:pathLst>
            </a:custGeom>
            <a:noFill/>
            <a:ln w="2844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Freeform 11"/>
            <p:cNvSpPr/>
            <p:nvPr/>
          </p:nvSpPr>
          <p:spPr>
            <a:xfrm>
              <a:off x="6249960" y="5672160"/>
              <a:ext cx="141120" cy="28692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155" h="317">
                  <a:moveTo>
                    <a:pt x="0" y="0"/>
                  </a:moveTo>
                  <a:cubicBezTo>
                    <a:pt x="23" y="22"/>
                    <a:pt x="125" y="82"/>
                    <a:pt x="140" y="135"/>
                  </a:cubicBezTo>
                  <a:cubicBezTo>
                    <a:pt x="155" y="188"/>
                    <a:pt x="101" y="279"/>
                    <a:pt x="91" y="317"/>
                  </a:cubicBezTo>
                </a:path>
              </a:pathLst>
            </a:custGeom>
            <a:noFill/>
            <a:ln w="2844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Text Box 12"/>
            <p:cNvSpPr/>
            <p:nvPr/>
          </p:nvSpPr>
          <p:spPr>
            <a:xfrm>
              <a:off x="7586640" y="325296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Text Box 13"/>
            <p:cNvSpPr/>
            <p:nvPr/>
          </p:nvSpPr>
          <p:spPr>
            <a:xfrm>
              <a:off x="7729200" y="3929040"/>
              <a:ext cx="5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Text Box 14"/>
            <p:cNvSpPr/>
            <p:nvPr/>
          </p:nvSpPr>
          <p:spPr>
            <a:xfrm>
              <a:off x="7672320" y="59180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1" name="Text Box 15"/>
            <p:cNvSpPr/>
            <p:nvPr/>
          </p:nvSpPr>
          <p:spPr>
            <a:xfrm>
              <a:off x="5843520" y="59166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2" name="Text Box 16"/>
            <p:cNvSpPr/>
            <p:nvPr/>
          </p:nvSpPr>
          <p:spPr>
            <a:xfrm>
              <a:off x="6507000" y="59306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0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3" name="Text Box 17"/>
            <p:cNvSpPr/>
            <p:nvPr/>
          </p:nvSpPr>
          <p:spPr>
            <a:xfrm>
              <a:off x="6303600" y="561312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4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4" name="Text Box 18"/>
            <p:cNvSpPr/>
            <p:nvPr/>
          </p:nvSpPr>
          <p:spPr>
            <a:xfrm>
              <a:off x="6751440" y="55418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5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5" name="Object 19"/>
              <p:cNvSpPr txBox="1"/>
              <p:nvPr/>
            </p:nvSpPr>
            <p:spPr>
              <a:xfrm>
                <a:off x="803160" y="3863880"/>
                <a:ext cx="2230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76" name="Picture 25" descr="图片1"/>
          <p:cNvPicPr/>
          <p:nvPr/>
        </p:nvPicPr>
        <p:blipFill>
          <a:blip r:embed="rId2"/>
          <a:srcRect l="0" t="31319" r="0" b="0"/>
          <a:stretch/>
        </p:blipFill>
        <p:spPr>
          <a:xfrm>
            <a:off x="774720" y="755640"/>
            <a:ext cx="2236680" cy="5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5"/>
          <p:cNvSpPr/>
          <p:nvPr/>
        </p:nvSpPr>
        <p:spPr>
          <a:xfrm>
            <a:off x="561960" y="2310120"/>
            <a:ext cx="5665680" cy="2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010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孝感中考）如图，一艘船向正北航行，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处看到灯塔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S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船的北偏东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0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方向上，航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海里到达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点，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处看到灯塔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S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船的北偏东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60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方向上，此船继续沿正北方向航行过程中距灯塔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S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最近距离是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海里（不作近似计算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Object 8"/>
              <p:cNvSpPr txBox="1"/>
              <p:nvPr/>
            </p:nvSpPr>
            <p:spPr>
              <a:xfrm>
                <a:off x="3770280" y="4875120"/>
                <a:ext cx="5144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779" name="Picture 9" descr="图片2"/>
          <p:cNvPicPr/>
          <p:nvPr/>
        </p:nvPicPr>
        <p:blipFill>
          <a:blip r:embed="rId1"/>
          <a:stretch/>
        </p:blipFill>
        <p:spPr>
          <a:xfrm>
            <a:off x="2433600" y="817560"/>
            <a:ext cx="3400560" cy="76212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0" descr=""/>
          <p:cNvPicPr/>
          <p:nvPr/>
        </p:nvPicPr>
        <p:blipFill>
          <a:blip r:embed="rId2"/>
          <a:stretch/>
        </p:blipFill>
        <p:spPr>
          <a:xfrm>
            <a:off x="6168960" y="2073240"/>
            <a:ext cx="2338560" cy="21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7:18:19Z</dcterms:created>
  <dc:creator>世纪金榜</dc:creator>
  <dc:description/>
  <dc:language>en-US</dc:language>
  <cp:lastModifiedBy>数字数学03</cp:lastModifiedBy>
  <dcterms:modified xsi:type="dcterms:W3CDTF">2014-10-14T07:06:26Z</dcterms:modified>
  <cp:revision>33</cp:revision>
  <dc:subject/>
  <dc:title>幻灯片 1</dc:title>
</cp:coreProperties>
</file>